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F228-4FC4-4CE9-85D0-38CCC9612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1F38-79AC-4A1A-8575-F3EE1074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B8F6-A9DF-48BC-B6B9-A370C0A8B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9C88-BA5D-4F85-A470-E55AC9ADE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2FA0-6CF4-440A-8330-3D1864EA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A46F-A690-439C-BD67-7E2742F4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54BF-AF6A-40E0-9568-8FFEFC8F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5F24-1CFF-456A-9CAD-20B6DC31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1E18-0F09-4B45-B693-FB4FC41F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EEDF-6F08-4634-B6B6-D019E5CA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42D9-65BA-43C9-98FC-BE286797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A82E-5268-46C0-845A-DF9A1758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AF4B-6FCE-46CE-A82D-548E16D52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029200" y="152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25588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781520" y="1009800"/>
            <a:ext cx="413388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Mark E. Damo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647712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2001 - All Rights 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7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7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7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7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52480" y="142884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7360" y="6338880"/>
            <a:ext cx="16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52280" y="76320"/>
            <a:ext cx="1523880" cy="5181120"/>
            <a:chOff x="152280" y="76320"/>
            <a:chExt cx="1523880" cy="5181120"/>
          </a:xfrm>
        </p:grpSpPr>
        <p:sp>
          <p:nvSpPr>
            <p:cNvPr id="52" name=""/>
            <p:cNvSpPr/>
            <p:nvPr/>
          </p:nvSpPr>
          <p:spPr>
            <a:xfrm>
              <a:off x="152280" y="440712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2280" y="378828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5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280" y="31694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2280" y="25509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2280" y="19321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280" y="13136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2280" y="6951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2280" y="763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315200" y="1219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91520" y="4191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3T14:15:00Z</dcterms:created>
  <dc:creator>Mark E. Damon</dc:creator>
  <dc:description/>
  <dc:language>en-US</dc:language>
  <cp:lastModifiedBy>Connie Campbell</cp:lastModifiedBy>
  <dcterms:modified xsi:type="dcterms:W3CDTF">2002-05-31T22:09:32Z</dcterms:modified>
  <cp:revision>16</cp:revision>
  <dc:subject/>
  <dc:title>No Slide Title</dc:title>
</cp:coreProperties>
</file>